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82692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实际问题与方程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525317"/>
          <p:cNvSpPr/>
          <p:nvPr/>
        </p:nvSpPr>
        <p:spPr>
          <a:xfrm>
            <a:off x="952560" y="51768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25318"/>
          <p:cNvSpPr/>
          <p:nvPr/>
        </p:nvSpPr>
        <p:spPr>
          <a:xfrm>
            <a:off x="3616560" y="4797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新知 拓展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332000" y="5284800"/>
            <a:ext cx="669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你能读懂这位同学的想法吗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355760" y="5587920"/>
            <a:ext cx="90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追问：这里为什么要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63640" y="1773360"/>
            <a:ext cx="5184720" cy="504720"/>
            <a:chOff x="1763640" y="1773360"/>
            <a:chExt cx="5184720" cy="504720"/>
          </a:xfrm>
        </p:grpSpPr>
        <p:sp>
          <p:nvSpPr>
            <p:cNvPr id="161" name="Rectangle 6"/>
            <p:cNvSpPr/>
            <p:nvPr/>
          </p:nvSpPr>
          <p:spPr>
            <a:xfrm>
              <a:off x="1763640" y="1773360"/>
              <a:ext cx="5011560" cy="504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1848960" y="1859040"/>
              <a:ext cx="509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每筒网球的个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筒数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网球总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8"/>
          <p:cNvSpPr/>
          <p:nvPr/>
        </p:nvSpPr>
        <p:spPr>
          <a:xfrm>
            <a:off x="2556000" y="2805840"/>
            <a:ext cx="333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解：设一共装了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答：一共装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8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539640" y="1701720"/>
            <a:ext cx="2305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预设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444760" y="2944800"/>
            <a:ext cx="3668760" cy="1715760"/>
            <a:chOff x="2444760" y="2944800"/>
            <a:chExt cx="3668760" cy="1715760"/>
          </a:xfrm>
        </p:grpSpPr>
        <p:sp>
          <p:nvSpPr>
            <p:cNvPr id="166" name="Text Box 10"/>
            <p:cNvSpPr/>
            <p:nvPr/>
          </p:nvSpPr>
          <p:spPr>
            <a:xfrm>
              <a:off x="2444760" y="2944800"/>
              <a:ext cx="33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535563"/>
            <p:cNvSpPr/>
            <p:nvPr/>
          </p:nvSpPr>
          <p:spPr>
            <a:xfrm>
              <a:off x="2535120" y="331776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2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535564"/>
            <p:cNvSpPr/>
            <p:nvPr/>
          </p:nvSpPr>
          <p:spPr>
            <a:xfrm>
              <a:off x="2774880" y="364788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535565"/>
            <p:cNvSpPr/>
            <p:nvPr/>
          </p:nvSpPr>
          <p:spPr>
            <a:xfrm>
              <a:off x="3016440" y="3931920"/>
              <a:ext cx="30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5÷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535566"/>
            <p:cNvSpPr/>
            <p:nvPr/>
          </p:nvSpPr>
          <p:spPr>
            <a:xfrm>
              <a:off x="2651040" y="429228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新知 拓展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39640" y="5661000"/>
            <a:ext cx="813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从题目中分析出了什么样的等量关系？怎样列方程解答呢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66560" y="15706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蓝鲸的寿命大约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5148360" y="2205000"/>
            <a:ext cx="3419280" cy="503280"/>
          </a:xfrm>
          <a:prstGeom prst="wedgeRoundRectCallout">
            <a:avLst>
              <a:gd name="adj1" fmla="val 2833"/>
              <a:gd name="adj2" fmla="val 11340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海象的寿命大约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1403280" y="2205000"/>
            <a:ext cx="2952720" cy="503280"/>
          </a:xfrm>
          <a:prstGeom prst="wedgeRoundRectCallout">
            <a:avLst>
              <a:gd name="adj1" fmla="val 4087"/>
              <a:gd name="adj2" fmla="val 12287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海象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536582" descr="蓝鲸"/>
          <p:cNvPicPr/>
          <p:nvPr/>
        </p:nvPicPr>
        <p:blipFill>
          <a:blip r:embed="rId2"/>
          <a:stretch/>
        </p:blipFill>
        <p:spPr>
          <a:xfrm>
            <a:off x="1403280" y="3141720"/>
            <a:ext cx="2894040" cy="216036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536583" descr="海象"/>
          <p:cNvPicPr/>
          <p:nvPr/>
        </p:nvPicPr>
        <p:blipFill>
          <a:blip r:embed="rId3"/>
          <a:stretch/>
        </p:blipFill>
        <p:spPr>
          <a:xfrm>
            <a:off x="5003640" y="3141720"/>
            <a:ext cx="30243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新知 拓展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266920" y="22906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设海象寿命大约是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411280" y="4163040"/>
            <a:ext cx="35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340000" y="47473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海象的寿命大约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68360" y="1628640"/>
            <a:ext cx="4175280" cy="1643400"/>
            <a:chOff x="2268360" y="1628640"/>
            <a:chExt cx="4175280" cy="1643400"/>
          </a:xfrm>
        </p:grpSpPr>
        <p:sp>
          <p:nvSpPr>
            <p:cNvPr id="183" name="Rectangle 7"/>
            <p:cNvSpPr/>
            <p:nvPr/>
          </p:nvSpPr>
          <p:spPr>
            <a:xfrm>
              <a:off x="2341080" y="1628640"/>
              <a:ext cx="3962520" cy="504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2484000" y="2903760"/>
              <a:ext cx="331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2268360" y="1691280"/>
              <a:ext cx="41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海象寿命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蓝鲸寿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2"/>
          <p:cNvSpPr/>
          <p:nvPr/>
        </p:nvSpPr>
        <p:spPr>
          <a:xfrm>
            <a:off x="539640" y="1701720"/>
            <a:ext cx="2305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预设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52560" y="2752560"/>
            <a:ext cx="3944880" cy="1632240"/>
            <a:chOff x="2752560" y="2752560"/>
            <a:chExt cx="3944880" cy="1632240"/>
          </a:xfrm>
        </p:grpSpPr>
        <p:sp>
          <p:nvSpPr>
            <p:cNvPr id="188" name="Text Box 10"/>
            <p:cNvSpPr/>
            <p:nvPr/>
          </p:nvSpPr>
          <p:spPr>
            <a:xfrm>
              <a:off x="2752560" y="2752560"/>
              <a:ext cx="33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537612"/>
            <p:cNvSpPr/>
            <p:nvPr/>
          </p:nvSpPr>
          <p:spPr>
            <a:xfrm>
              <a:off x="2852640" y="3068640"/>
              <a:ext cx="30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537613"/>
            <p:cNvSpPr/>
            <p:nvPr/>
          </p:nvSpPr>
          <p:spPr>
            <a:xfrm>
              <a:off x="3092400" y="3360600"/>
              <a:ext cx="30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537614"/>
            <p:cNvSpPr/>
            <p:nvPr/>
          </p:nvSpPr>
          <p:spPr>
            <a:xfrm>
              <a:off x="3600360" y="3645000"/>
              <a:ext cx="30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÷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20÷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537615"/>
            <p:cNvSpPr/>
            <p:nvPr/>
          </p:nvSpPr>
          <p:spPr>
            <a:xfrm>
              <a:off x="3236760" y="4016520"/>
              <a:ext cx="30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总结质疑 反思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900000" y="2205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还有什么疑问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68360" y="1701720"/>
            <a:ext cx="7524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顾一下，今天这节课你有哪些收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39640" y="2133720"/>
            <a:ext cx="8136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六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六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42920" y="5051520"/>
            <a:ext cx="7777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从图中得到了哪些数学信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 激发兴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619280" y="556812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五边形、六边形与所要解决的问题没有关系，是多余条件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527364" descr="18"/>
          <p:cNvPicPr/>
          <p:nvPr/>
        </p:nvPicPr>
        <p:blipFill>
          <a:blip r:embed="rId2"/>
          <a:stretch/>
        </p:blipFill>
        <p:spPr>
          <a:xfrm>
            <a:off x="1042920" y="1700280"/>
            <a:ext cx="7053480" cy="3238560"/>
          </a:xfrm>
          <a:prstGeom prst="rect">
            <a:avLst/>
          </a:prstGeom>
          <a:ln w="0">
            <a:noFill/>
          </a:ln>
        </p:spPr>
      </p:pic>
      <p:sp>
        <p:nvSpPr>
          <p:cNvPr id="47" name="矩形 527366"/>
          <p:cNvSpPr/>
          <p:nvPr/>
        </p:nvSpPr>
        <p:spPr>
          <a:xfrm>
            <a:off x="952560" y="51768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24000" y="1413000"/>
            <a:ext cx="51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明确问题 提出要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971640" y="609300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71640" y="57103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列方程的方法解决这个问题，如果有困难，可以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来帮助思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611280" y="5105520"/>
            <a:ext cx="626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要解决的问题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528390" descr="18"/>
          <p:cNvPicPr/>
          <p:nvPr/>
        </p:nvPicPr>
        <p:blipFill>
          <a:blip r:embed="rId2"/>
          <a:stretch/>
        </p:blipFill>
        <p:spPr>
          <a:xfrm>
            <a:off x="1042920" y="1919160"/>
            <a:ext cx="7053480" cy="3238560"/>
          </a:xfrm>
          <a:prstGeom prst="rect">
            <a:avLst/>
          </a:prstGeom>
          <a:ln w="0">
            <a:noFill/>
          </a:ln>
        </p:spPr>
      </p:pic>
      <p:sp>
        <p:nvSpPr>
          <p:cNvPr id="54" name="矩形 528392"/>
          <p:cNvSpPr/>
          <p:nvPr/>
        </p:nvSpPr>
        <p:spPr>
          <a:xfrm>
            <a:off x="952560" y="51768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324000" y="1413000"/>
            <a:ext cx="51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列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预设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40000" y="2060640"/>
            <a:ext cx="2809800" cy="9367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363760" y="21628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解：设共有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块黑色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-33480" y="2997360"/>
            <a:ext cx="806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说一说你的想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-33480" y="3585960"/>
            <a:ext cx="65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监控：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表示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973080" y="3952800"/>
            <a:ext cx="795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示：要找准标准量，设一倍数为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几倍数就用几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569880" y="442188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从题目中找到了什么样的等量关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71640" y="4797360"/>
            <a:ext cx="8280360" cy="888840"/>
            <a:chOff x="971640" y="4797360"/>
            <a:chExt cx="8280360" cy="888840"/>
          </a:xfrm>
        </p:grpSpPr>
        <p:grpSp>
          <p:nvGrpSpPr>
            <p:cNvPr id="65" name=""/>
            <p:cNvGrpSpPr/>
            <p:nvPr/>
          </p:nvGrpSpPr>
          <p:grpSpPr>
            <a:xfrm>
              <a:off x="3184560" y="5181480"/>
              <a:ext cx="3889440" cy="504720"/>
              <a:chOff x="3184560" y="5181480"/>
              <a:chExt cx="3889440" cy="504720"/>
            </a:xfrm>
          </p:grpSpPr>
          <p:sp>
            <p:nvSpPr>
              <p:cNvPr id="66" name="Rectangle 4"/>
              <p:cNvSpPr/>
              <p:nvPr/>
            </p:nvSpPr>
            <p:spPr>
              <a:xfrm>
                <a:off x="3184560" y="5181480"/>
                <a:ext cx="3817080" cy="5047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5"/>
              <p:cNvSpPr/>
              <p:nvPr/>
            </p:nvSpPr>
            <p:spPr>
              <a:xfrm>
                <a:off x="3256920" y="5267160"/>
                <a:ext cx="381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黑色皮块数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白色皮块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14"/>
            <p:cNvSpPr/>
            <p:nvPr/>
          </p:nvSpPr>
          <p:spPr>
            <a:xfrm>
              <a:off x="971640" y="4797360"/>
              <a:ext cx="828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根据黑色皮数量与白色皮数量的倍数关系“白色皮比黑色皮的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少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块”，找到                                                       这一等量关系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900000" y="3070080"/>
            <a:ext cx="3888000" cy="501840"/>
            <a:chOff x="900000" y="3070080"/>
            <a:chExt cx="3888000" cy="501840"/>
          </a:xfrm>
        </p:grpSpPr>
        <p:sp>
          <p:nvSpPr>
            <p:cNvPr id="71" name="Rectangle 5"/>
            <p:cNvSpPr/>
            <p:nvPr/>
          </p:nvSpPr>
          <p:spPr>
            <a:xfrm>
              <a:off x="900000" y="3070080"/>
              <a:ext cx="3816000" cy="5018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6"/>
            <p:cNvSpPr/>
            <p:nvPr/>
          </p:nvSpPr>
          <p:spPr>
            <a:xfrm>
              <a:off x="971640" y="315468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黑色皮块数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白色皮块数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52360" y="1989000"/>
            <a:ext cx="2305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预设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58920" y="2060640"/>
            <a:ext cx="2809800" cy="86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258920" y="221328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解：设共有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块黑色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076720" y="3070080"/>
            <a:ext cx="3889440" cy="501840"/>
            <a:chOff x="5076720" y="3070080"/>
            <a:chExt cx="3889440" cy="501840"/>
          </a:xfrm>
        </p:grpSpPr>
        <p:sp>
          <p:nvSpPr>
            <p:cNvPr id="78" name="Rectangle 13"/>
            <p:cNvSpPr/>
            <p:nvPr/>
          </p:nvSpPr>
          <p:spPr>
            <a:xfrm>
              <a:off x="5076720" y="3070080"/>
              <a:ext cx="3816360" cy="5018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4"/>
            <p:cNvSpPr/>
            <p:nvPr/>
          </p:nvSpPr>
          <p:spPr>
            <a:xfrm>
              <a:off x="5148360" y="3153960"/>
              <a:ext cx="38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黑色皮块数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白色皮块数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2"/>
          <p:cNvSpPr/>
          <p:nvPr/>
        </p:nvSpPr>
        <p:spPr>
          <a:xfrm>
            <a:off x="478800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预设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5796000" y="2060640"/>
            <a:ext cx="2808360" cy="9381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830920" y="2148840"/>
            <a:ext cx="32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解：设共有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块黑色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95280" y="357336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看这两位同学列的方程，你能读懂他们的想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1168560" y="417744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们是根据什么等量关系列出方程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155600" y="5805360"/>
            <a:ext cx="777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么根据同一个倍数关系，列出了三个不同的方程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4508280"/>
            <a:ext cx="4967280" cy="1331280"/>
            <a:chOff x="1619280" y="4508280"/>
            <a:chExt cx="4967280" cy="1331280"/>
          </a:xfrm>
        </p:grpSpPr>
        <p:sp>
          <p:nvSpPr>
            <p:cNvPr id="87" name="Text Box 6"/>
            <p:cNvSpPr/>
            <p:nvPr/>
          </p:nvSpPr>
          <p:spPr>
            <a:xfrm>
              <a:off x="5546880" y="5468400"/>
              <a:ext cx="103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648520" y="4907520"/>
              <a:ext cx="1758600" cy="34560"/>
              <a:chOff x="2648520" y="4907520"/>
              <a:chExt cx="1758600" cy="34560"/>
            </a:xfrm>
          </p:grpSpPr>
          <p:sp>
            <p:nvSpPr>
              <p:cNvPr id="89" name="Line 8"/>
              <p:cNvSpPr/>
              <p:nvPr/>
            </p:nvSpPr>
            <p:spPr>
              <a:xfrm flipH="1">
                <a:off x="2648520" y="4942080"/>
                <a:ext cx="175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9"/>
              <p:cNvSpPr/>
              <p:nvPr/>
            </p:nvSpPr>
            <p:spPr>
              <a:xfrm flipH="1">
                <a:off x="4406760" y="4907520"/>
                <a:ext cx="36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0"/>
              <p:cNvSpPr/>
              <p:nvPr/>
            </p:nvSpPr>
            <p:spPr>
              <a:xfrm flipH="1">
                <a:off x="2648880" y="4907520"/>
                <a:ext cx="36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11"/>
            <p:cNvSpPr/>
            <p:nvPr/>
          </p:nvSpPr>
          <p:spPr>
            <a:xfrm>
              <a:off x="3682800" y="5502240"/>
              <a:ext cx="11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612520" y="5382720"/>
              <a:ext cx="2903040" cy="34560"/>
              <a:chOff x="2612520" y="5382720"/>
              <a:chExt cx="2903040" cy="34560"/>
            </a:xfrm>
          </p:grpSpPr>
          <p:sp>
            <p:nvSpPr>
              <p:cNvPr id="94" name="Line 13"/>
              <p:cNvSpPr/>
              <p:nvPr/>
            </p:nvSpPr>
            <p:spPr>
              <a:xfrm flipH="1">
                <a:off x="2612520" y="5417280"/>
                <a:ext cx="290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4"/>
              <p:cNvSpPr/>
              <p:nvPr/>
            </p:nvSpPr>
            <p:spPr>
              <a:xfrm flipH="1">
                <a:off x="5514840" y="5382720"/>
                <a:ext cx="72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5"/>
              <p:cNvSpPr/>
              <p:nvPr/>
            </p:nvSpPr>
            <p:spPr>
              <a:xfrm flipH="1">
                <a:off x="2612520" y="5382720"/>
                <a:ext cx="108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16"/>
            <p:cNvSpPr/>
            <p:nvPr/>
          </p:nvSpPr>
          <p:spPr>
            <a:xfrm rot="5400000">
              <a:off x="3985560" y="4056120"/>
              <a:ext cx="130320" cy="2905200"/>
            </a:xfrm>
            <a:custGeom>
              <a:avLst/>
              <a:gdLst>
                <a:gd name="textAreaLeft" fmla="*/ 0 w 130320"/>
                <a:gd name="textAreaRight" fmla="*/ 47160 w 130320"/>
                <a:gd name="textAreaTop" fmla="*/ 75600 h 2905200"/>
                <a:gd name="textAreaBottom" fmla="*/ 2829600 h 29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8"/>
                    <a:pt x="10800" y="1796"/>
                  </a:cubicBezTo>
                  <a:lnTo>
                    <a:pt x="10800" y="9004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8"/>
                    <a:pt x="10800" y="12596"/>
                  </a:cubicBezTo>
                  <a:lnTo>
                    <a:pt x="10800" y="19804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7"/>
            <p:cNvSpPr/>
            <p:nvPr/>
          </p:nvSpPr>
          <p:spPr>
            <a:xfrm>
              <a:off x="1619280" y="4765320"/>
              <a:ext cx="114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黑色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8"/>
            <p:cNvSpPr/>
            <p:nvPr/>
          </p:nvSpPr>
          <p:spPr>
            <a:xfrm>
              <a:off x="1619280" y="5209560"/>
              <a:ext cx="10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白色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>
              <a:off x="4446720" y="5382720"/>
              <a:ext cx="720" cy="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0"/>
            <p:cNvSpPr/>
            <p:nvPr/>
          </p:nvSpPr>
          <p:spPr>
            <a:xfrm flipV="1" rot="16200000">
              <a:off x="4341600" y="3520800"/>
              <a:ext cx="131040" cy="3591720"/>
            </a:xfrm>
            <a:custGeom>
              <a:avLst/>
              <a:gdLst>
                <a:gd name="textAreaLeft" fmla="*/ 0 w 131040"/>
                <a:gd name="textAreaRight" fmla="*/ 47160 w 131040"/>
                <a:gd name="textAreaTop" fmla="*/ 93240 h 3591720"/>
                <a:gd name="textAreaBottom" fmla="*/ 3498480 h 359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8"/>
                    <a:pt x="10800" y="1796"/>
                  </a:cubicBezTo>
                  <a:lnTo>
                    <a:pt x="10800" y="9004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8"/>
                    <a:pt x="10800" y="12596"/>
                  </a:cubicBezTo>
                  <a:lnTo>
                    <a:pt x="10800" y="19804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1"/>
            <p:cNvSpPr/>
            <p:nvPr/>
          </p:nvSpPr>
          <p:spPr>
            <a:xfrm>
              <a:off x="4094280" y="4993920"/>
              <a:ext cx="103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i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2"/>
            <p:cNvSpPr/>
            <p:nvPr/>
          </p:nvSpPr>
          <p:spPr>
            <a:xfrm>
              <a:off x="5516280" y="5382720"/>
              <a:ext cx="720" cy="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3"/>
            <p:cNvSpPr/>
            <p:nvPr/>
          </p:nvSpPr>
          <p:spPr>
            <a:xfrm>
              <a:off x="5516280" y="5415480"/>
              <a:ext cx="68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4"/>
            <p:cNvSpPr/>
            <p:nvPr/>
          </p:nvSpPr>
          <p:spPr>
            <a:xfrm rot="5400000">
              <a:off x="5810400" y="5153040"/>
              <a:ext cx="97920" cy="688320"/>
            </a:xfrm>
            <a:custGeom>
              <a:avLst/>
              <a:gdLst>
                <a:gd name="textAreaLeft" fmla="*/ 0 w 97920"/>
                <a:gd name="textAreaRight" fmla="*/ 35280 w 97920"/>
                <a:gd name="textAreaTop" fmla="*/ 17640 h 688320"/>
                <a:gd name="textAreaBottom" fmla="*/ 67068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8"/>
                    <a:pt x="10800" y="1796"/>
                  </a:cubicBezTo>
                  <a:lnTo>
                    <a:pt x="10800" y="9004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8"/>
                    <a:pt x="10800" y="12596"/>
                  </a:cubicBezTo>
                  <a:lnTo>
                    <a:pt x="10800" y="19804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3284280" y="4508280"/>
              <a:ext cx="6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6"/>
            <p:cNvSpPr/>
            <p:nvPr/>
          </p:nvSpPr>
          <p:spPr>
            <a:xfrm flipV="1" rot="16200000">
              <a:off x="3505680" y="3962880"/>
              <a:ext cx="97920" cy="1757160"/>
            </a:xfrm>
            <a:custGeom>
              <a:avLst/>
              <a:gdLst>
                <a:gd name="textAreaLeft" fmla="*/ 0 w 97920"/>
                <a:gd name="textAreaRight" fmla="*/ 35280 w 97920"/>
                <a:gd name="textAreaTop" fmla="*/ 45720 h 1757160"/>
                <a:gd name="textAreaBottom" fmla="*/ 1711440 h 17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8"/>
                    <a:pt x="10800" y="1796"/>
                  </a:cubicBezTo>
                  <a:lnTo>
                    <a:pt x="10800" y="9004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8"/>
                    <a:pt x="10800" y="12596"/>
                  </a:cubicBezTo>
                  <a:lnTo>
                    <a:pt x="10800" y="19804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2"/>
          <p:cNvSpPr/>
          <p:nvPr/>
        </p:nvSpPr>
        <p:spPr>
          <a:xfrm>
            <a:off x="324000" y="1413000"/>
            <a:ext cx="51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列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324000" y="321480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预设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09600" y="389880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：设共有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块黑色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76720" y="389520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：设共有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块黑色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3276720" y="3213000"/>
            <a:ext cx="2305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预设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6218280" y="3213000"/>
            <a:ext cx="2305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预设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238800" y="3789360"/>
            <a:ext cx="29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：设共有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块黑色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229068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不能根据以前学习的知识求出方程的解呢？任选一个试一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2867040"/>
            <a:ext cx="72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提示：能转化为我们学过的方程来解一解吗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24000" y="1413000"/>
            <a:ext cx="51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解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31467"/>
          <p:cNvSpPr/>
          <p:nvPr/>
        </p:nvSpPr>
        <p:spPr>
          <a:xfrm>
            <a:off x="7133760" y="50562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31468"/>
          <p:cNvSpPr/>
          <p:nvPr/>
        </p:nvSpPr>
        <p:spPr>
          <a:xfrm>
            <a:off x="6743880" y="4749840"/>
            <a:ext cx="14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31469"/>
          <p:cNvSpPr/>
          <p:nvPr/>
        </p:nvSpPr>
        <p:spPr>
          <a:xfrm>
            <a:off x="6993720" y="44179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31470"/>
          <p:cNvSpPr/>
          <p:nvPr/>
        </p:nvSpPr>
        <p:spPr>
          <a:xfrm>
            <a:off x="619200" y="443700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31471"/>
          <p:cNvSpPr/>
          <p:nvPr/>
        </p:nvSpPr>
        <p:spPr>
          <a:xfrm>
            <a:off x="1517400" y="531972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31472"/>
          <p:cNvSpPr/>
          <p:nvPr/>
        </p:nvSpPr>
        <p:spPr>
          <a:xfrm>
            <a:off x="1127520" y="5013360"/>
            <a:ext cx="14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31473"/>
          <p:cNvSpPr/>
          <p:nvPr/>
        </p:nvSpPr>
        <p:spPr>
          <a:xfrm>
            <a:off x="1377000" y="469116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31474"/>
          <p:cNvSpPr/>
          <p:nvPr/>
        </p:nvSpPr>
        <p:spPr>
          <a:xfrm>
            <a:off x="4628880" y="53370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31475"/>
          <p:cNvSpPr/>
          <p:nvPr/>
        </p:nvSpPr>
        <p:spPr>
          <a:xfrm>
            <a:off x="4239000" y="5030640"/>
            <a:ext cx="14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31476"/>
          <p:cNvSpPr/>
          <p:nvPr/>
        </p:nvSpPr>
        <p:spPr>
          <a:xfrm>
            <a:off x="4498200" y="469908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31477"/>
          <p:cNvSpPr/>
          <p:nvPr/>
        </p:nvSpPr>
        <p:spPr>
          <a:xfrm>
            <a:off x="3397320" y="4416480"/>
            <a:ext cx="24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31478"/>
          <p:cNvSpPr/>
          <p:nvPr/>
        </p:nvSpPr>
        <p:spPr>
          <a:xfrm>
            <a:off x="592200" y="6021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1280" y="4365720"/>
            <a:ext cx="6559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50920" y="2219400"/>
            <a:ext cx="88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说一说你是怎样解这个方程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1066680" y="4168800"/>
            <a:ext cx="84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么检验这道题是否正确？（引导学生进行检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09480" y="301536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仔细观察方程解的过程，它们有什么共同的特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308240" y="2615400"/>
            <a:ext cx="74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监控：先把谁看作一个整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187280" y="346320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都是先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作一个整体，先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于多少，再求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于多少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且最终都转化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形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解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32489"/>
          <p:cNvSpPr/>
          <p:nvPr/>
        </p:nvSpPr>
        <p:spPr>
          <a:xfrm>
            <a:off x="952560" y="51768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32490"/>
          <p:cNvSpPr/>
          <p:nvPr/>
        </p:nvSpPr>
        <p:spPr>
          <a:xfrm>
            <a:off x="1168560" y="53928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32491"/>
          <p:cNvSpPr/>
          <p:nvPr/>
        </p:nvSpPr>
        <p:spPr>
          <a:xfrm>
            <a:off x="1384560" y="56088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32492"/>
          <p:cNvSpPr/>
          <p:nvPr/>
        </p:nvSpPr>
        <p:spPr>
          <a:xfrm>
            <a:off x="1600200" y="58244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050840" y="4149720"/>
            <a:ext cx="81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决同一个问题，我们列出了三个不同的方程。如果让你选择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一个方程，你会选择哪个？说说你的想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300320" y="4648680"/>
            <a:ext cx="81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使学生体会到顺着题意找出等量关系，再列出方程更简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324000" y="2060640"/>
            <a:ext cx="856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家回想一下，列方程解决实际问题有哪些步骤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936720" y="2543040"/>
            <a:ext cx="85708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找出未知数，用字母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936720" y="2952720"/>
            <a:ext cx="8570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分析实际问题中的数量关系，找出等量关系，列方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936720" y="3405240"/>
            <a:ext cx="8570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解方程并检验作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四）总结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新知 拓展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395280" y="4869000"/>
            <a:ext cx="6697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从题目中你找到了什么样的等量关系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187280" y="5138640"/>
            <a:ext cx="90014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列方程解决这个问题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84360" y="164196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534533" descr="19"/>
          <p:cNvPicPr/>
          <p:nvPr/>
        </p:nvPicPr>
        <p:blipFill>
          <a:blip r:embed="rId2"/>
          <a:stretch/>
        </p:blipFill>
        <p:spPr>
          <a:xfrm>
            <a:off x="1692360" y="1989000"/>
            <a:ext cx="5700600" cy="2878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04760" y="1531800"/>
            <a:ext cx="813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共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网球，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装一筒，装完后还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。一共装了多少筒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3:20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